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9.wmf" ContentType="image/x-wmf"/>
  <Override PartName="/ppt/media/image8.wmf" ContentType="image/x-wmf"/>
  <Override PartName="/ppt/media/image13.wmf" ContentType="image/x-wmf"/>
  <Override PartName="/ppt/media/image12.png" ContentType="image/png"/>
  <Override PartName="/ppt/media/image7.wmf" ContentType="image/x-wmf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972" spc="-1" strike="noStrike">
                <a:solidFill>
                  <a:srgbClr val="000000"/>
                </a:solidFill>
                <a:latin typeface="Arial"/>
              </a:defRPr>
            </a:pPr>
            <a:r>
              <a:rPr b="0" sz="972" spc="-1" strike="noStrike">
                <a:solidFill>
                  <a:srgbClr val="000000"/>
                </a:solidFill>
                <a:latin typeface="Arial"/>
              </a:rPr>
              <a:t>EEMR MATUTINO</a:t>
            </a:r>
          </a:p>
        </c:rich>
      </c:tx>
      <c:layout>
        <c:manualLayout>
          <c:xMode val="edge"/>
          <c:yMode val="edge"/>
          <c:x val="0.43860272876761"/>
          <c:y val="0.0199975003124609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122984626921635"/>
          <c:w val="0.959957335229545"/>
          <c:h val="0.85639295088114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0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1</c:v>
                </c:pt>
                <c:pt idx="2">
                  <c:v>14</c:v>
                </c:pt>
                <c:pt idx="3">
                  <c:v>3</c:v>
                </c:pt>
                <c:pt idx="4">
                  <c:v>10</c:v>
                </c:pt>
                <c:pt idx="5">
                  <c:v>7</c:v>
                </c:pt>
                <c:pt idx="6">
                  <c:v>0</c:v>
                </c:pt>
                <c:pt idx="7">
                  <c:v>4</c:v>
                </c:pt>
                <c:pt idx="8">
                  <c:v>0</c:v>
                </c:pt>
                <c:pt idx="9">
                  <c:v>0</c:v>
                </c:pt>
                <c:pt idx="10">
                  <c:v>10</c:v>
                </c:pt>
                <c:pt idx="11">
                  <c:v>0</c:v>
                </c:pt>
                <c:pt idx="12">
                  <c:v>5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0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4.692</c:v>
                </c:pt>
                <c:pt idx="1">
                  <c:v>4.692</c:v>
                </c:pt>
                <c:pt idx="2">
                  <c:v>12.144</c:v>
                </c:pt>
                <c:pt idx="3">
                  <c:v>10.212</c:v>
                </c:pt>
                <c:pt idx="4">
                  <c:v>7.452</c:v>
                </c:pt>
                <c:pt idx="5">
                  <c:v>7.452</c:v>
                </c:pt>
                <c:pt idx="6">
                  <c:v>5.52</c:v>
                </c:pt>
                <c:pt idx="7">
                  <c:v>5.796</c:v>
                </c:pt>
                <c:pt idx="8">
                  <c:v>1.656</c:v>
                </c:pt>
                <c:pt idx="9">
                  <c:v>1.932</c:v>
                </c:pt>
                <c:pt idx="10">
                  <c:v>2.208</c:v>
                </c:pt>
                <c:pt idx="11">
                  <c:v>1.656</c:v>
                </c:pt>
                <c:pt idx="12">
                  <c:v>0.828</c:v>
                </c:pt>
                <c:pt idx="13">
                  <c:v>0.828</c:v>
                </c:pt>
                <c:pt idx="14">
                  <c:v>1.932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42539118"/>
        <c:axId val="42008009"/>
      </c:barChart>
      <c:catAx>
        <c:axId val="42539118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008009"/>
        <c:crossesAt val="0"/>
        <c:auto val="1"/>
        <c:lblAlgn val="ctr"/>
        <c:lblOffset val="100"/>
        <c:noMultiLvlLbl val="0"/>
      </c:catAx>
      <c:valAx>
        <c:axId val="420080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539118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344" spc="-1" strike="noStrike">
                <a:solidFill>
                  <a:srgbClr val="000000"/>
                </a:solidFill>
                <a:latin typeface="Arial"/>
              </a:defRPr>
            </a:pPr>
            <a:r>
              <a:rPr b="1" sz="1344" spc="-1" strike="noStrike">
                <a:solidFill>
                  <a:srgbClr val="000000"/>
                </a:solidFill>
                <a:latin typeface="Arial"/>
              </a:rPr>
              <a:t>EEMR MATUTINO</a:t>
            </a:r>
          </a:p>
        </c:rich>
      </c:tx>
      <c:layout>
        <c:manualLayout>
          <c:xMode val="edge"/>
          <c:yMode val="edge"/>
          <c:x val="0.410959512910537"/>
          <c:y val="0.0207474065741782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160979877515311"/>
          <c:w val="0.959957335229545"/>
          <c:h val="0.81864766904137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0</c:v>
                </c:pt>
                <c:pt idx="2">
                  <c:v>3</c:v>
                </c:pt>
                <c:pt idx="3">
                  <c:v>3</c:v>
                </c:pt>
                <c:pt idx="4">
                  <c:v>1</c:v>
                </c:pt>
                <c:pt idx="5">
                  <c:v>5</c:v>
                </c:pt>
                <c:pt idx="6">
                  <c:v>2</c:v>
                </c:pt>
                <c:pt idx="7">
                  <c:v>1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1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3.468</c:v>
                </c:pt>
                <c:pt idx="1">
                  <c:v>3.468</c:v>
                </c:pt>
                <c:pt idx="2">
                  <c:v>8.976</c:v>
                </c:pt>
                <c:pt idx="3">
                  <c:v>7.548</c:v>
                </c:pt>
                <c:pt idx="4">
                  <c:v>5.508</c:v>
                </c:pt>
                <c:pt idx="5">
                  <c:v>5.508</c:v>
                </c:pt>
                <c:pt idx="6">
                  <c:v>4.08</c:v>
                </c:pt>
                <c:pt idx="7">
                  <c:v>4.284</c:v>
                </c:pt>
                <c:pt idx="8">
                  <c:v>1.224</c:v>
                </c:pt>
                <c:pt idx="9">
                  <c:v>1.428</c:v>
                </c:pt>
                <c:pt idx="10">
                  <c:v>1.632</c:v>
                </c:pt>
                <c:pt idx="11">
                  <c:v>1.224</c:v>
                </c:pt>
                <c:pt idx="12">
                  <c:v>0.612</c:v>
                </c:pt>
                <c:pt idx="13">
                  <c:v>0.612</c:v>
                </c:pt>
                <c:pt idx="14">
                  <c:v>1.428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76782019"/>
        <c:axId val="87632623"/>
      </c:barChart>
      <c:catAx>
        <c:axId val="76782019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632623"/>
        <c:crossesAt val="0"/>
        <c:auto val="1"/>
        <c:lblAlgn val="ctr"/>
        <c:lblOffset val="100"/>
        <c:noMultiLvlLbl val="0"/>
      </c:catAx>
      <c:valAx>
        <c:axId val="876326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782019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352" spc="-1" strike="noStrike">
                <a:solidFill>
                  <a:srgbClr val="000000"/>
                </a:solidFill>
                <a:latin typeface="Arial"/>
              </a:defRPr>
            </a:pPr>
            <a:r>
              <a:rPr b="1" sz="1352" spc="-1" strike="noStrike">
                <a:solidFill>
                  <a:srgbClr val="000000"/>
                </a:solidFill>
                <a:latin typeface="Arial"/>
              </a:rPr>
              <a:t>EEMR MATUTINO</a:t>
            </a:r>
          </a:p>
        </c:rich>
      </c:tx>
      <c:layout>
        <c:manualLayout>
          <c:xMode val="edge"/>
          <c:yMode val="edge"/>
          <c:x val="0.411034543687605"/>
          <c:y val="0.0207448137965509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8780811025709"/>
          <c:y val="0.161084728817796"/>
          <c:w val="0.959978796713491"/>
          <c:h val="0.81867033241689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7</c:v>
                </c:pt>
                <c:pt idx="1">
                  <c:v>0</c:v>
                </c:pt>
                <c:pt idx="2">
                  <c:v>4</c:v>
                </c:pt>
                <c:pt idx="3">
                  <c:v>11</c:v>
                </c:pt>
                <c:pt idx="4">
                  <c:v>4</c:v>
                </c:pt>
                <c:pt idx="5">
                  <c:v>5</c:v>
                </c:pt>
                <c:pt idx="6">
                  <c:v>0</c:v>
                </c:pt>
                <c:pt idx="7">
                  <c:v>4</c:v>
                </c:pt>
                <c:pt idx="8">
                  <c:v>0</c:v>
                </c:pt>
                <c:pt idx="9">
                  <c:v>0</c:v>
                </c:pt>
                <c:pt idx="10">
                  <c:v>6</c:v>
                </c:pt>
                <c:pt idx="11">
                  <c:v>0</c:v>
                </c:pt>
                <c:pt idx="12">
                  <c:v>0</c:v>
                </c:pt>
                <c:pt idx="13">
                  <c:v>2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4.624</c:v>
                </c:pt>
                <c:pt idx="1">
                  <c:v>4.624</c:v>
                </c:pt>
                <c:pt idx="2">
                  <c:v>11.968</c:v>
                </c:pt>
                <c:pt idx="3">
                  <c:v>10.064</c:v>
                </c:pt>
                <c:pt idx="4">
                  <c:v>7.344</c:v>
                </c:pt>
                <c:pt idx="5">
                  <c:v>7.344</c:v>
                </c:pt>
                <c:pt idx="6">
                  <c:v>5.44</c:v>
                </c:pt>
                <c:pt idx="7">
                  <c:v>5.712</c:v>
                </c:pt>
                <c:pt idx="8">
                  <c:v>1.632</c:v>
                </c:pt>
                <c:pt idx="9">
                  <c:v>1.904</c:v>
                </c:pt>
                <c:pt idx="10">
                  <c:v>2.176</c:v>
                </c:pt>
                <c:pt idx="11">
                  <c:v>1.632</c:v>
                </c:pt>
                <c:pt idx="12">
                  <c:v>0.816</c:v>
                </c:pt>
                <c:pt idx="13">
                  <c:v>0.816</c:v>
                </c:pt>
                <c:pt idx="14">
                  <c:v>1.904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24911068"/>
        <c:axId val="213124"/>
      </c:barChart>
      <c:catAx>
        <c:axId val="24911068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3124"/>
        <c:crossesAt val="0"/>
        <c:auto val="1"/>
        <c:lblAlgn val="ctr"/>
        <c:lblOffset val="100"/>
        <c:noMultiLvlLbl val="0"/>
      </c:catAx>
      <c:valAx>
        <c:axId val="2131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911068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972" spc="-1" strike="noStrike">
                <a:solidFill>
                  <a:srgbClr val="000000"/>
                </a:solidFill>
                <a:latin typeface="Arial"/>
              </a:defRPr>
            </a:pPr>
            <a:r>
              <a:rPr b="0" sz="972" spc="-1" strike="noStrike">
                <a:solidFill>
                  <a:srgbClr val="000000"/>
                </a:solidFill>
                <a:latin typeface="Arial"/>
              </a:rPr>
              <a:t>EEMR VESPERTINO</a:t>
            </a:r>
          </a:p>
        </c:rich>
      </c:tx>
      <c:layout>
        <c:manualLayout>
          <c:xMode val="edge"/>
          <c:yMode val="edge"/>
          <c:x val="0.42980311986134"/>
          <c:y val="0.019995001249687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122969257685579"/>
          <c:w val="0.959957335229545"/>
          <c:h val="0.856410897275681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0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0</c:v>
                </c:pt>
                <c:pt idx="2">
                  <c:v>5</c:v>
                </c:pt>
                <c:pt idx="3">
                  <c:v>1</c:v>
                </c:pt>
                <c:pt idx="4">
                  <c:v>0</c:v>
                </c:pt>
                <c:pt idx="5">
                  <c:v>1</c:v>
                </c:pt>
                <c:pt idx="6">
                  <c:v>0</c:v>
                </c:pt>
                <c:pt idx="7">
                  <c:v>0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0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5.125</c:v>
                </c:pt>
                <c:pt idx="1">
                  <c:v>3.41666666666667</c:v>
                </c:pt>
                <c:pt idx="2">
                  <c:v>10.25</c:v>
                </c:pt>
                <c:pt idx="3">
                  <c:v>10.25</c:v>
                </c:pt>
                <c:pt idx="4">
                  <c:v>3.41666666666667</c:v>
                </c:pt>
                <c:pt idx="5">
                  <c:v>3.41666666666667</c:v>
                </c:pt>
                <c:pt idx="6">
                  <c:v>0</c:v>
                </c:pt>
                <c:pt idx="7">
                  <c:v>3.41666666666667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1.70833333333333</c:v>
                </c:pt>
              </c:numCache>
            </c:numRef>
          </c:val>
        </c:ser>
        <c:gapWidth val="100"/>
        <c:overlap val="0"/>
        <c:axId val="25841227"/>
        <c:axId val="4195221"/>
      </c:barChart>
      <c:catAx>
        <c:axId val="25841227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95221"/>
        <c:crossesAt val="0"/>
        <c:auto val="1"/>
        <c:lblAlgn val="ctr"/>
        <c:lblOffset val="100"/>
        <c:noMultiLvlLbl val="0"/>
      </c:catAx>
      <c:valAx>
        <c:axId val="41952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841227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351" spc="-1" strike="noStrike">
                <a:solidFill>
                  <a:srgbClr val="000000"/>
                </a:solidFill>
                <a:latin typeface="Arial"/>
              </a:defRPr>
            </a:pPr>
            <a:r>
              <a:rPr b="1" sz="1351" spc="-1" strike="noStrike">
                <a:solidFill>
                  <a:srgbClr val="000000"/>
                </a:solidFill>
                <a:latin typeface="Arial"/>
              </a:rPr>
              <a:t>EEMR VESPERTINO</a:t>
            </a:r>
          </a:p>
        </c:rich>
      </c:tx>
      <c:layout>
        <c:manualLayout>
          <c:xMode val="edge"/>
          <c:yMode val="edge"/>
          <c:x val="0.398523495866673"/>
          <c:y val="0.0207972270363952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8930197603996"/>
          <c:y val="0.160911878416211"/>
          <c:w val="0.959860306794572"/>
          <c:h val="0.818690841221171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5</c:v>
                </c:pt>
                <c:pt idx="1">
                  <c:v>0</c:v>
                </c:pt>
                <c:pt idx="2">
                  <c:v>3</c:v>
                </c:pt>
                <c:pt idx="3">
                  <c:v>1</c:v>
                </c:pt>
                <c:pt idx="4">
                  <c:v>0</c:v>
                </c:pt>
                <c:pt idx="5">
                  <c:v>0</c:v>
                </c:pt>
                <c:pt idx="6">
                  <c:v>0</c:v>
                </c:pt>
                <c:pt idx="7">
                  <c:v>0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6.375</c:v>
                </c:pt>
                <c:pt idx="1">
                  <c:v>4.25</c:v>
                </c:pt>
                <c:pt idx="2">
                  <c:v>12.75</c:v>
                </c:pt>
                <c:pt idx="3">
                  <c:v>12.75</c:v>
                </c:pt>
                <c:pt idx="4">
                  <c:v>4.25</c:v>
                </c:pt>
                <c:pt idx="5">
                  <c:v>4.25</c:v>
                </c:pt>
                <c:pt idx="6">
                  <c:v>0</c:v>
                </c:pt>
                <c:pt idx="7">
                  <c:v>4.25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2.125</c:v>
                </c:pt>
              </c:numCache>
            </c:numRef>
          </c:val>
        </c:ser>
        <c:gapWidth val="100"/>
        <c:overlap val="0"/>
        <c:axId val="44346500"/>
        <c:axId val="89758960"/>
      </c:barChart>
      <c:catAx>
        <c:axId val="44346500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758960"/>
        <c:crossesAt val="0"/>
        <c:auto val="1"/>
        <c:lblAlgn val="ctr"/>
        <c:lblOffset val="100"/>
        <c:noMultiLvlLbl val="0"/>
      </c:catAx>
      <c:valAx>
        <c:axId val="897589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346500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343" spc="-1" strike="noStrike">
                <a:solidFill>
                  <a:srgbClr val="000000"/>
                </a:solidFill>
                <a:latin typeface="Arial"/>
              </a:defRPr>
            </a:pPr>
            <a:r>
              <a:rPr b="1" sz="1343" spc="-1" strike="noStrike">
                <a:solidFill>
                  <a:srgbClr val="000000"/>
                </a:solidFill>
                <a:latin typeface="Arial"/>
              </a:rPr>
              <a:t>EEMR MAIO VESPERTINO</a:t>
            </a:r>
          </a:p>
        </c:rich>
      </c:tx>
      <c:layout>
        <c:manualLayout>
          <c:xMode val="edge"/>
          <c:yMode val="edge"/>
          <c:x val="0.398604506466379"/>
          <c:y val="0.0204948762809298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46686813919"/>
          <c:y val="0.161084728817796"/>
          <c:w val="0.959957335229545"/>
          <c:h val="0.81867033241689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6</c:v>
                </c:pt>
                <c:pt idx="1">
                  <c:v>0</c:v>
                </c:pt>
                <c:pt idx="2">
                  <c:v>5</c:v>
                </c:pt>
                <c:pt idx="3">
                  <c:v>4</c:v>
                </c:pt>
                <c:pt idx="4">
                  <c:v>0</c:v>
                </c:pt>
                <c:pt idx="5">
                  <c:v>2</c:v>
                </c:pt>
                <c:pt idx="6">
                  <c:v>0</c:v>
                </c:pt>
                <c:pt idx="7">
                  <c:v>1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7.5</c:v>
                </c:pt>
                <c:pt idx="1">
                  <c:v>5</c:v>
                </c:pt>
                <c:pt idx="2">
                  <c:v>15</c:v>
                </c:pt>
                <c:pt idx="3">
                  <c:v>15</c:v>
                </c:pt>
                <c:pt idx="4">
                  <c:v>5</c:v>
                </c:pt>
                <c:pt idx="5">
                  <c:v>5</c:v>
                </c:pt>
                <c:pt idx="6">
                  <c:v>0</c:v>
                </c:pt>
                <c:pt idx="7">
                  <c:v>5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2.5</c:v>
                </c:pt>
              </c:numCache>
            </c:numRef>
          </c:val>
        </c:ser>
        <c:gapWidth val="100"/>
        <c:overlap val="0"/>
        <c:axId val="92310550"/>
        <c:axId val="26459155"/>
      </c:barChart>
      <c:catAx>
        <c:axId val="92310550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459155"/>
        <c:crossesAt val="0"/>
        <c:auto val="1"/>
        <c:lblAlgn val="ctr"/>
        <c:lblOffset val="100"/>
        <c:noMultiLvlLbl val="0"/>
      </c:catAx>
      <c:valAx>
        <c:axId val="264591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310550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972" spc="-1" strike="noStrike">
                <a:solidFill>
                  <a:srgbClr val="000000"/>
                </a:solidFill>
                <a:latin typeface="Arial"/>
              </a:defRPr>
            </a:pPr>
            <a:r>
              <a:rPr b="0" sz="972" spc="-1" strike="noStrike">
                <a:solidFill>
                  <a:srgbClr val="000000"/>
                </a:solidFill>
                <a:latin typeface="Arial"/>
              </a:rPr>
              <a:t>EEMR NOTURNO</a:t>
            </a:r>
          </a:p>
        </c:rich>
      </c:tx>
      <c:layout>
        <c:manualLayout>
          <c:xMode val="edge"/>
          <c:yMode val="edge"/>
          <c:x val="0.439669348028977"/>
          <c:y val="0.0198725159355081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122984626921635"/>
          <c:w val="0.959957335229545"/>
          <c:h val="0.856767904011999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0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12</c:v>
                </c:pt>
                <c:pt idx="1">
                  <c:v>0</c:v>
                </c:pt>
                <c:pt idx="2">
                  <c:v>15</c:v>
                </c:pt>
                <c:pt idx="3">
                  <c:v>0</c:v>
                </c:pt>
                <c:pt idx="4">
                  <c:v>0</c:v>
                </c:pt>
                <c:pt idx="5">
                  <c:v>0</c:v>
                </c:pt>
                <c:pt idx="6">
                  <c:v>0</c:v>
                </c:pt>
                <c:pt idx="7">
                  <c:v>0</c:v>
                </c:pt>
                <c:pt idx="8">
                  <c:v>0</c:v>
                </c:pt>
                <c:pt idx="9">
                  <c:v>0</c:v>
                </c:pt>
                <c:pt idx="10">
                  <c:v>5</c:v>
                </c:pt>
                <c:pt idx="11">
                  <c:v>9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0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3.00401606425703</c:v>
                </c:pt>
                <c:pt idx="1">
                  <c:v>3.00401606425703</c:v>
                </c:pt>
                <c:pt idx="2">
                  <c:v>10.6506024096386</c:v>
                </c:pt>
                <c:pt idx="3">
                  <c:v>9.83132530120482</c:v>
                </c:pt>
                <c:pt idx="4">
                  <c:v>6.82730923694779</c:v>
                </c:pt>
                <c:pt idx="5">
                  <c:v>6.82730923694779</c:v>
                </c:pt>
                <c:pt idx="6">
                  <c:v>6.82730923694779</c:v>
                </c:pt>
                <c:pt idx="7">
                  <c:v>2.45783132530121</c:v>
                </c:pt>
                <c:pt idx="8">
                  <c:v>4.36947791164659</c:v>
                </c:pt>
                <c:pt idx="9">
                  <c:v>5.18875502008032</c:v>
                </c:pt>
                <c:pt idx="10">
                  <c:v>4.6425702811245</c:v>
                </c:pt>
                <c:pt idx="11">
                  <c:v>2.18473895582329</c:v>
                </c:pt>
                <c:pt idx="12">
                  <c:v>1.36546184738956</c:v>
                </c:pt>
                <c:pt idx="13">
                  <c:v>0.819277108433735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63574846"/>
        <c:axId val="37574670"/>
      </c:barChart>
      <c:catAx>
        <c:axId val="63574846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574670"/>
        <c:crossesAt val="0"/>
        <c:auto val="1"/>
        <c:lblAlgn val="ctr"/>
        <c:lblOffset val="100"/>
        <c:noMultiLvlLbl val="0"/>
      </c:catAx>
      <c:valAx>
        <c:axId val="375746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574846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344" spc="-1" strike="noStrike">
                <a:solidFill>
                  <a:srgbClr val="000000"/>
                </a:solidFill>
                <a:latin typeface="Arial"/>
              </a:defRPr>
            </a:pPr>
            <a:r>
              <a:rPr b="1" sz="1344" spc="-1" strike="noStrike">
                <a:solidFill>
                  <a:srgbClr val="000000"/>
                </a:solidFill>
                <a:latin typeface="Arial"/>
              </a:rPr>
              <a:t>EEMR NOTURNO</a:t>
            </a:r>
          </a:p>
        </c:rich>
      </c:tx>
      <c:layout>
        <c:manualLayout>
          <c:xMode val="edge"/>
          <c:yMode val="edge"/>
          <c:x val="0.413670503533176"/>
          <c:y val="0.0206224221972254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160854893138358"/>
          <c:w val="0.959957335229545"/>
          <c:h val="0.818772653418323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0</c:v>
                </c:pt>
                <c:pt idx="2">
                  <c:v>12</c:v>
                </c:pt>
                <c:pt idx="3">
                  <c:v>0</c:v>
                </c:pt>
                <c:pt idx="4">
                  <c:v>2</c:v>
                </c:pt>
                <c:pt idx="5">
                  <c:v>0</c:v>
                </c:pt>
                <c:pt idx="6">
                  <c:v>2</c:v>
                </c:pt>
                <c:pt idx="7">
                  <c:v>2</c:v>
                </c:pt>
                <c:pt idx="8">
                  <c:v>0</c:v>
                </c:pt>
                <c:pt idx="9">
                  <c:v>1</c:v>
                </c:pt>
                <c:pt idx="10">
                  <c:v>1</c:v>
                </c:pt>
                <c:pt idx="11">
                  <c:v>4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2.69477911646586</c:v>
                </c:pt>
                <c:pt idx="1">
                  <c:v>2.69477911646586</c:v>
                </c:pt>
                <c:pt idx="2">
                  <c:v>9.55421686746988</c:v>
                </c:pt>
                <c:pt idx="3">
                  <c:v>8.81927710843373</c:v>
                </c:pt>
                <c:pt idx="4">
                  <c:v>6.12449799196787</c:v>
                </c:pt>
                <c:pt idx="5">
                  <c:v>6.12449799196787</c:v>
                </c:pt>
                <c:pt idx="6">
                  <c:v>6.12449799196787</c:v>
                </c:pt>
                <c:pt idx="7">
                  <c:v>2.20481927710843</c:v>
                </c:pt>
                <c:pt idx="8">
                  <c:v>3.91967871485944</c:v>
                </c:pt>
                <c:pt idx="9">
                  <c:v>4.65461847389558</c:v>
                </c:pt>
                <c:pt idx="10">
                  <c:v>4.16465863453815</c:v>
                </c:pt>
                <c:pt idx="11">
                  <c:v>1.95983935742972</c:v>
                </c:pt>
                <c:pt idx="12">
                  <c:v>1.22489959839357</c:v>
                </c:pt>
                <c:pt idx="13">
                  <c:v>0.734939759036144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12524847"/>
        <c:axId val="9297460"/>
      </c:barChart>
      <c:catAx>
        <c:axId val="12524847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97460"/>
        <c:crossesAt val="0"/>
        <c:auto val="1"/>
        <c:lblAlgn val="ctr"/>
        <c:lblOffset val="100"/>
        <c:noMultiLvlLbl val="0"/>
      </c:catAx>
      <c:valAx>
        <c:axId val="92974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524847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352" spc="-1" strike="noStrike">
                <a:solidFill>
                  <a:srgbClr val="000000"/>
                </a:solidFill>
                <a:latin typeface="Arial"/>
              </a:defRPr>
            </a:pPr>
            <a:r>
              <a:rPr b="1" sz="1352" spc="-1" strike="noStrike">
                <a:solidFill>
                  <a:srgbClr val="000000"/>
                </a:solidFill>
                <a:latin typeface="Arial"/>
              </a:rPr>
              <a:t>EEMR NOTURNO</a:t>
            </a:r>
          </a:p>
        </c:rich>
      </c:tx>
      <c:layout>
        <c:manualLayout>
          <c:xMode val="edge"/>
          <c:yMode val="edge"/>
          <c:x val="0.413729128014842"/>
          <c:y val="0.0206224221972254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8780811025709"/>
          <c:y val="0.160854893138358"/>
          <c:w val="0.959978796713491"/>
          <c:h val="0.818772653418323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8</c:v>
                </c:pt>
                <c:pt idx="1">
                  <c:v>1</c:v>
                </c:pt>
                <c:pt idx="2">
                  <c:v>0</c:v>
                </c:pt>
                <c:pt idx="3">
                  <c:v>3</c:v>
                </c:pt>
                <c:pt idx="4">
                  <c:v>0</c:v>
                </c:pt>
                <c:pt idx="5">
                  <c:v>0</c:v>
                </c:pt>
                <c:pt idx="6">
                  <c:v>2</c:v>
                </c:pt>
                <c:pt idx="7">
                  <c:v>3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4</c:v>
                </c:pt>
                <c:pt idx="12">
                  <c:v>0</c:v>
                </c:pt>
                <c:pt idx="13">
                  <c:v>3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2.69477911646586</c:v>
                </c:pt>
                <c:pt idx="1">
                  <c:v>2.69477911646586</c:v>
                </c:pt>
                <c:pt idx="2">
                  <c:v>9.55421686746988</c:v>
                </c:pt>
                <c:pt idx="3">
                  <c:v>8.81927710843373</c:v>
                </c:pt>
                <c:pt idx="4">
                  <c:v>5.14457831325301</c:v>
                </c:pt>
                <c:pt idx="5">
                  <c:v>6.12449799196787</c:v>
                </c:pt>
                <c:pt idx="6">
                  <c:v>5.14457831325301</c:v>
                </c:pt>
                <c:pt idx="7">
                  <c:v>2.20481927710843</c:v>
                </c:pt>
                <c:pt idx="8">
                  <c:v>3.91967871485944</c:v>
                </c:pt>
                <c:pt idx="9">
                  <c:v>4.65461847389558</c:v>
                </c:pt>
                <c:pt idx="10">
                  <c:v>4.16465863453815</c:v>
                </c:pt>
                <c:pt idx="11">
                  <c:v>1.95983935742972</c:v>
                </c:pt>
                <c:pt idx="12">
                  <c:v>1.95983935742972</c:v>
                </c:pt>
                <c:pt idx="13">
                  <c:v>1.95983935742972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41424390"/>
        <c:axId val="50408801"/>
      </c:barChart>
      <c:catAx>
        <c:axId val="41424390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408801"/>
        <c:crossesAt val="0"/>
        <c:auto val="1"/>
        <c:lblAlgn val="ctr"/>
        <c:lblOffset val="100"/>
        <c:noMultiLvlLbl val="0"/>
      </c:catAx>
      <c:valAx>
        <c:axId val="504088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424390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682900-A36A-4970-992F-EDA73270ECBE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6FF9-641F-408B-BE82-68DC8FF72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DAF8-1F0E-4929-B755-9C083CCA1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7C23-2217-461F-B738-E262EF949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6D13-2E8D-41CA-82A0-A31FEE628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78D0-7C2B-4433-B6EE-3D5BCF503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508A-AB8C-4371-BA6C-EA702F6ED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8BF8-AD3D-4324-8DF6-E73937421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0A77-76F5-4B48-A0DD-9B11B99F0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EC28-EC9E-4348-B26A-32803CB16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B171-4595-4393-9B11-44855048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2D04-A76E-4CFD-B304-0183A8C8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ED25-31C6-4B14-9FB5-D1968E69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8936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C01CE0-2DC9-474F-85BA-203CF6F490C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chart" Target="../charts/chart4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chart" Target="../charts/chart5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6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5400" spc="-1" strike="noStrike">
                <a:solidFill>
                  <a:srgbClr val="000000"/>
                </a:solidFill>
                <a:latin typeface="Britannic Bold"/>
              </a:rPr>
              <a:t>VISITA SEMESTR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47640" y="393372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COLA ESTADUAL MERECHAL ROND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 algn="ctr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0" algn="ctr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0" algn="ctr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NOTU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0" algn="ctr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0" algn="ctr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MARÇO – ABRIL – MA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0" algn="ctr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0" algn="ctr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Ana Patrí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1729080" cy="1584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093080" y="465300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ARÇ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539640" y="1619280"/>
          <a:ext cx="809964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2519280" y="4670280"/>
          <a:ext cx="381168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19280" y="467028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dur="indefinite" fill="hold">
                      <p:stCondLst>
                        <p:cond delay="0"/>
                      </p:stCondLst>
                      <p:childTnLst>
                        <p:par>
                          <p:cTn id="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BR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539640" y="1619280"/>
          <a:ext cx="809964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2700360" y="4680000"/>
          <a:ext cx="381168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468000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dur="indefinite" fill="hold">
                      <p:stCondLst>
                        <p:cond delay="0"/>
                      </p:stCondLst>
                      <p:childTnLst>
                        <p:par>
                          <p:cTn id="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A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90680" y="1619280"/>
          <a:ext cx="814860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2668680" y="4670280"/>
          <a:ext cx="381132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8680" y="4670280"/>
                    <a:ext cx="381132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dur="indefinite" fill="hold">
                      <p:stCondLst>
                        <p:cond delay="0"/>
                      </p:stCondLst>
                      <p:childTnLst>
                        <p:par>
                          <p:cTn id="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569080" cy="75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 algn="ctr">
              <a:spcBef>
                <a:spcPts val="10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6600" indent="0" algn="ctr">
              <a:spcBef>
                <a:spcPts val="10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6600" indent="0" algn="ctr">
              <a:spcBef>
                <a:spcPts val="10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TUTI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6600" indent="0" algn="ctr">
              <a:spcBef>
                <a:spcPts val="10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6600" indent="0" algn="ctr">
              <a:spcBef>
                <a:spcPts val="10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RÇO – ABRIL– MA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6600" indent="0" algn="ctr">
              <a:spcBef>
                <a:spcPts val="10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6600" indent="0" algn="ctr">
              <a:spcBef>
                <a:spcPts val="10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iov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spcBef>
                <a:spcPts val="9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6600" indent="0" algn="ctr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0" algn="ctr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421320" y="5300640"/>
            <a:ext cx="2722680" cy="1800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877080" y="0"/>
            <a:ext cx="2087640" cy="1800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ARÇ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539640" y="1619280"/>
          <a:ext cx="809964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2668680" y="4670280"/>
          <a:ext cx="381132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8680" y="4670280"/>
                    <a:ext cx="381132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BR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539640" y="1619280"/>
          <a:ext cx="809964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2849400" y="4670280"/>
          <a:ext cx="381168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49400" y="467028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A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90680" y="1619280"/>
          <a:ext cx="814860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2849400" y="4670280"/>
          <a:ext cx="381168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49400" y="467028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dur="indefinite" fill="hold">
                      <p:stCondLst>
                        <p:cond delay="0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43812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VESPERT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MARÇO- ABRIL – MA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Fá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1747800" cy="11523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012000" y="5373720"/>
            <a:ext cx="2663640" cy="1224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ARÇ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539640" y="1619280"/>
          <a:ext cx="809964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2668680" y="4670280"/>
          <a:ext cx="381132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8680" y="4670280"/>
                    <a:ext cx="381132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dur="indefinite" fill="hold">
                      <p:stCondLst>
                        <p:cond delay="0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BR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96800" y="1619280"/>
          <a:ext cx="8143920" cy="2700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2668680" y="4680000"/>
          <a:ext cx="381132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8680" y="4680000"/>
                    <a:ext cx="381132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dur="indefinite" fill="hold">
                      <p:stCondLst>
                        <p:cond delay="0"/>
                      </p:stCondLst>
                      <p:childTnLst>
                        <p:par>
                          <p:cTn id="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A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539640" y="1619280"/>
          <a:ext cx="809964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2700360" y="4670280"/>
          <a:ext cx="381168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467028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dur="indefinite" fill="hold">
                      <p:stCondLst>
                        <p:cond delay="0"/>
                      </p:stCondLst>
                      <p:childTnLst>
                        <p:par>
                          <p:cTn id="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EDMS</dc:creator>
  <dc:description/>
  <dc:language>en-US</dc:language>
  <cp:lastModifiedBy>SEDMS</cp:lastModifiedBy>
  <dcterms:modified xsi:type="dcterms:W3CDTF">2009-07-06T19:48:04Z</dcterms:modified>
  <cp:revision>1</cp:revision>
  <dc:subject/>
  <dc:title>As tecnologias mais utilizadas na escola são:</dc:title>
</cp:coreProperties>
</file>